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581-982E-4ADC-B469-E2371544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24F-254A-446D-A46E-977897F6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EDA-9B6F-4556-BF9F-D8072C0A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57F-92C7-4454-83EB-00708E39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275-3635-45CC-BB06-1A0B200C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4F17-54D4-415B-B02B-E210ACD9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AD2-C435-4782-9355-61829934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540-44F0-447A-A302-C6AD81AD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ECE-B693-4C9E-92ED-1460AF9E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1AA-246C-4050-8EC4-BE3F6BBE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015-173E-4B70-AC9F-C441D00A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CA3-99F9-4A7C-8926-2870B944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9E49-609C-4088-81CC-7ABE73FC1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-7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Крас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углое, румяное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расту на ветке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ят меня взрослы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маленькие де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3213000"/>
            <a:ext cx="3240360" cy="288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35640" y="3573360"/>
            <a:ext cx="2663640" cy="244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20360" y="1557000"/>
            <a:ext cx="303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ный, детки, но не м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городе - не бур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чный лакомый синь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ада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ОРАНЖЕ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оранжевой коже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мячик похожи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в центре не пус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сочно и вкусно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251928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ЖЕЛ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259092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2466720" cy="1847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3130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ЗЕЛЕ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3203640" cy="201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651640" y="1773360"/>
            <a:ext cx="2879640" cy="244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124000" y="3860640"/>
            <a:ext cx="3097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ГОЛУБ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24180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2544840" cy="2877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7050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СИ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408480" cy="2590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867280" y="981000"/>
            <a:ext cx="2232000" cy="3168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203640" y="4508640"/>
            <a:ext cx="3097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ФИОЛЕТО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67200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056120" cy="2590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635280" y="4221000"/>
            <a:ext cx="29149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04:56:36Z</dcterms:created>
  <dc:creator>AUD312</dc:creator>
  <dc:description/>
  <dc:language>en-US</dc:language>
  <cp:lastModifiedBy>AUD312</cp:lastModifiedBy>
  <dcterms:modified xsi:type="dcterms:W3CDTF">2012-04-12T05:47:10Z</dcterms:modified>
  <cp:revision>2</cp:revision>
  <dc:subject/>
  <dc:title>Слайд 1</dc:title>
</cp:coreProperties>
</file>